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D59-0FF5-454F-AEC7-82EC1125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D67C-0C5F-44C1-B324-5E6F3D21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7333-7215-4A80-AC78-F9C6944A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EB26-47EE-4A16-8156-2F99B658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8ECE-8177-431E-92B2-4ABF6386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3E26-4AF0-4BED-9C70-2E079A29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3E3-8A22-47D5-9653-92AB655B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AAB-CA63-42A5-B195-A769888F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2DB-0535-47AE-BB87-13BD5203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4EE-8E95-43E4-8F18-B2ABDFDF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88F-785E-46EC-AD4D-112AAE33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F89-C39A-4994-8557-E610C65E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4C37-BA2E-403C-898C-9B6E6A5267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ultural dimension of biomedicine and pharmaceutica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Mothers giving medicines to their sick childr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Have therapeutic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Confirm that mother c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Send that message to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To husband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Which reinforces therapeutic effec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Women in distress relying on benzodiazepi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 enable them to stay in control of their lives, socially, psychologically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But the dependence on the medicines also produces feelings of disempower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Nett effect could be discomfort and distress at a deeper lev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doct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way of dealing with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uncertain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token of conc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asserts doctor’s professional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auth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ption becomes itself a medic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symbolic act to terminate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 a consult in a positive mood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: scientific claims and commercial ai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ines are commodities that should produce pro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fficacy is scientifically pr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ufacturers believe in the efficacy of their produ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makers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words that should be used convincingly in documents produced for political author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items, which, if managed well, legitimise political authority; if not managed well, they diminish credibility of politici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essential ingredients in health care which are however difficult to control due to their commercial and other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ommod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 (re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cri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rmac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ulturally reinterpr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t-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yang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sential medicines also escape control of health care 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di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ural re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-EXOT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al anthropology at home (home-coming of anthropology; a logical result of studying the Oth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udying familiar things abroad (churches, hospitals, school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: African ethnograph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y were biomedical institutions, medicines and activities not studi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ceptively famil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“cultural” (but sc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acce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thropology in medi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studying biomedical 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how culture presented obstacles to biomedicine (vaccination, health seeking, self-care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xample of pharmaceuticals: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My ‘discovery’ in Gh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harmaceuticals were the most frequently used treatment in Gh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 of “contraceptive” Alop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miliar medicines proved “exotic” after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I become exotic to myself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nthropology of pharmaceutic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ing at medicines as social and cultural pheno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cial, cultural, emotional (etc) efficacies team up with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INES HAV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ic efficacy (concreteness, ‘good to think with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B. All contribute to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CIAL LIVES OF MEDICINES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. The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2. Mothers and childr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3. Villagers and local remed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4.Women in dist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5. Sceptical consu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I. Th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6. Drug vendors and their mark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7. ‘Pharmacists’ as ‘doctors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8. Injectioni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9. Prescribing doctors: </a:t>
            </a: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V. The Strateg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0. Manufacturers: scientific claims, commercial 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1. Health planners: making and contesting drug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4:32:54Z</dcterms:created>
  <dc:creator>svandergeest</dc:creator>
  <dc:description/>
  <dc:language>en-US</dc:language>
  <cp:lastModifiedBy>Owner</cp:lastModifiedBy>
  <dcterms:modified xsi:type="dcterms:W3CDTF">2013-11-18T13:41:24Z</dcterms:modified>
  <cp:revision>8</cp:revision>
  <dc:subject/>
  <dc:title>SOCIAL AND CULTURAL EFFECTS OF MEDICINES</dc:title>
</cp:coreProperties>
</file>